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dt" idx="40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ftr" idx="41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 type="sldNum" idx="42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1F07-630C-4993-82DB-2CE1C884A5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СП ИРО осуществляют деятельность по данному направлению (Информационный центр, Центр технического сопровождения), к ряду направлений деятельности сети подключаются сотрудники предметных кафедр ИРО (в частности, экспертирование методических материалов и создание банков ИОР) – на данном этапе уже участвуют кафедры менеджмента, общей педагогики и психологии, начальн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DB6A-01B4-4F34-9F40-E9E68EFE16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941D-69AF-451D-A26C-DC56E8076B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8D32-8243-4AEF-B581-D51024BD12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EAAF-9A90-4641-9AA4-E2B0004707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2016 г. в 2017 году конкурсный отбор проводится раньш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лижайшие дни будут известны победители конкурсного от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в 2017 г. будут отобраны 40 О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м о том, что в регионе достаточно большое количество педагогических коллективов ОО, замотивированных к тому, чтобы развиваться в данном направлении, развивать свои информационно-образовательные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оответственно в регионе есть возможность и желание включить в деятельность по развитию ЕИОП региона большее количество шко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483C-E542-42A2-9707-093D11CA7F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е пока не утвержде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4456-AB67-4A32-B0A1-AF26C00A79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знали и понимали существующие в регионе дефиц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мониторинга «Современной дидактики» подтверди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ш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е данные, наши выводы по результатам собственн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6788-2B2A-4CF5-962C-394860FE29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пондентами была отмечена необходимость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C477-AA9E-490E-931A-8011186858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17 году данный инструмент будет использован для проведения мониторин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од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ля новых участников сети – победителей конкурсного отбора 201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межуточ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ля победителей конкурсного отбора 201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инамическая модель мониторинга предполагает анализ данных, содержащих не только начальный и конечный, но еще как минимум один промежуточный результат измерений с помощью одних и тех же средств и методов, что позволяет в итоге выявить тенденции изменений объекта мониторингового исследования. Причем о тенденции можно будет говорить только в том случае, когда разница между начальными, промежуточными и конечными измерениями будет статистически значимой и эмпирически доказуемой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4112-3E88-434C-8795-4ADCFEE9FA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-й этап обучения в апреле 2017 г., состоялся бы даже в случае, если бы ИРО не выиграл субсидию 2017-2018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9A11-5C3B-446A-AB8C-0A9C856C3A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3763-EF64-40F8-A5E7-CB658731CE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Плана мероприятий по реализации федеральной программы в регионе разработаны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A21D-317E-43C7-87F1-0B282DD56B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овое занятие прошло в форме обсуждения первых шагов по реализации проекта. Школьные команды определили для себя ключевые направления деятельности, а также те направления, в которых уже наработан успешный опыт, полезный остальным участникам региональной сети ИБЦ. Были выявлены и проблемные точки в реализации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обсуждения участники региональной сети ИБЦ определили ключевые задачи деятельности на предстоящий 2017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175E-D018-4EC0-9B78-B35574BD94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41A8-E1E3-4EFD-912A-4D253846E0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D2E6-1D85-4062-87EA-022DE80E33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курсовое сопровождение предусматривает включение педагогов в различные формы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0C74-57E0-41E4-B013-205429E301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имер обсуждения (создания в проектировочном режиме) продукта группами заинтересованных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И такие лидеры уже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пример, именно 2 участника региональной сети стали инициаторами региональной интернет-акции к юбилею нашей землячки В.В. Терешковой (учащиеся готовили творческие подарки В.В. Терешковой). Команды из 11 школ-участниц сети приняли участие в акции, активное участие приняли библиотекари шк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6BE0-187D-4B00-856E-2AAEF83C3A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6FC5-FE07-424B-9FDE-F0C76887AB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CCA9-8BF6-4D9A-8B23-7465B672FA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2F9C-3AAA-4997-BC5A-6660AE43D8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D1B1-E039-4D7A-ABC1-DD1C9AB9A4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3F81-88A0-4131-8541-9A4BCC0849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отметить, что в Ярославском регионе к моменту начала реализации Федеральной программы по направлению создания ШИБЦ уже имелся очень интересный опыт работы на муниципальном уровне. Я говорю об опыте г. Рыбинска (на Круглом столе данный опыт представили сотрудники МУ ДПО «Информационно-образовательный центр» г. Рыбин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по преобразованию деятельности школьных библиотек как информационно-библиотечных центров в течение пяти лет нарабатывался инновационной командой образовательных организаций городского округа город Рыбинск (в рамках работы РИП) по темам «Сетевая библиотека – центр информационно-образовательного пространства» (2012 – 2013 годы), «Механизмы использования ресурсов открытого информационно-образовательного пространства на муниципальном уровне для достижения обучающимися новых образовательных результатов» (2014 – 2016 год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и РИП г. Рыбинска Шувалова С.О. и Карастелина С.В. являются соавторами Сборника «Методические рекомендации по созданию региональной сети ИБЦ ОО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ое Положение о ШИБЦ, включенное в сборник и рекомендованное участникам сети, было разработано нашими коллегами из г. Рыбинска, участниками РИП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опытом РИП ИОЦ г. Рыбинска можно познакомиться подробно на официальном сайте МУ ДПО ИОЦ г. Рыбинска, других интернет-площадках ИОП г. Рыбинска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ioc.rybadm.ru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oc.rybadm.ru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8AB8-690A-462D-B051-7A8DA353F59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9D65-7212-4317-AEA7-89CECB841F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IP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-адр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F580-D79F-45D8-92E8-D0480F5A03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1B07-E090-4BD7-8BA2-26754CBE55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43FE-A99D-44A6-A5EB-4223681F87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узнать друг д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72EA-298D-4F8B-B26C-3AB9090859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FA32-9C37-4B29-AFCD-60C7FCBAC8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F528-AF5E-4E2E-BCAB-505E77FF63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916B-9DA0-48A3-889C-A38E9F9F34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ТИПОВОЕ положение о региональном ресурсном цент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е о РИБЦ пока НЕ УТВЕРЖДЕ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96F3-FB22-4A4D-B6E8-1D7606A580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ы делаются на добровольность участия и в то же время наличие некоторых обязательств сетевого взаимодействия, горизонтальные связи, автономность участников и в то же время взаимосвязь через решение общих целей и задач, на открытость и возможность расширения сети, на реализацию совместной Де, в том числе проектной 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A013-DB8E-4464-8BB2-986D606E369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ный отбор 20 ОО, которым выделяется грант на создание школьных ИБЦ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BE76-CC96-4C5A-97FB-77C69BBCAB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7 год – утвержден Порядок предоставления гранта (с небольшими дополнениями)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курсные материалы те же, что и в 2016 г. (также с небольшими дополнениями в описании условий готов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15A4-7CAA-44B2-98C3-1EE3720CF1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CB4-CDD0-490F-A503-B1D2CAAD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08E-F38E-4590-98B4-DB0E9E39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ABB8C-74F2-4F48-BCEE-B7D22D5C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F9981-4EE8-462F-90B5-458E3661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09A57-0468-4C62-B23C-776B748E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EFF8A-A1EB-4BE7-92A8-B8C6CB7B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F7B41-338A-42CE-BE33-67CD490A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3D1BD-B721-4B19-B6F3-7C0281C0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CA58B-D755-47C3-980D-DF9EC1F4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277AB-A7EB-4401-BBDB-7BC095FA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EEC1F-F7C0-4355-BC75-91DEC2AE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3AEC1-50CA-4761-B426-DF63C63D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7BCA-178D-4CB4-9276-1AD5BDDD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EA274-E1DA-4CDD-B4E3-EED533AA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26A07-CB3A-404F-8619-987ABF20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C60EA-35E2-4625-868C-3ED108B5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F71ED-72A7-4496-8E62-2290A7D2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FD474-67F1-4AFD-8FFB-8C0D33C8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35D47-1B07-43F4-B350-BC10730E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291E7-BB33-40C9-95D6-3F1C6C49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636D9-E935-4A09-B51E-139E4B77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31203-E662-4508-81AA-476C601C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0FEDD-32E7-41D2-83CC-7AB7941F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EA89-0243-4490-AA5B-70AC80C7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6CA1D-02FD-462C-AC3D-F88AFAD9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D60E6-969B-458E-B6B0-C35695E5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127C0-DB9F-4753-93E9-6E85DCF0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983EB-ED56-4E3A-BE6A-A94C0A91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524B1-38A0-4DC9-A951-D502973A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DE6B9-6F90-471F-ACBB-A78F4EF7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665E0-E56B-49F6-A176-5A296E9D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C9119-CEAD-4A6D-99E8-3F8A3B3A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17A01-013F-4183-91E6-58D4D26C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10F2B-5BAD-4FDC-80CE-412C77B1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3104-5196-4A85-B76D-2641D059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AF3DE-00CA-40BC-B8F6-A318F0DE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E12AC-A31E-4ECA-893E-4C4F1F2A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68EDB-9736-4F04-B45A-E2A94C2C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2657B-E79A-4764-83DB-CB665A04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B2A95-7B15-4D08-9305-30EBF0B5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D983A-98F4-44DB-8666-30CF7F31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1F18B-DAA0-414E-8935-1CE34FA0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4D196-7BE1-4E9B-8977-E16F2516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381F3-1B86-4D83-B9EB-FE5C4FC2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A4F6A-CCAC-4238-92C3-9C2F3606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E8D3-3B0E-40C3-9424-2D34F7F4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6ABA5-5841-4B2D-B38D-46924747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0619C-4EE2-46EA-B827-ECB7E7F0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35DB8-A346-4BE3-8640-4B573A2A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2BB54-F995-4CB1-B746-7891F391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41DD3-E0EC-47FC-BA64-9D69D747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24A49-114D-4435-89A9-1EE58949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899CAB-FF14-4B3A-8BC6-62830F57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C1A120-0247-4B67-87F0-7F41C525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125D1B-AE60-4982-8C77-067C6BDB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52001-4A64-475C-988B-F34ED9DC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2383-49CD-4816-8830-55D5B9BB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A578AF-B8E5-4BCC-87F7-A23DA999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0190A-9188-495A-8B97-52625AE9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A6C86-680A-46DC-96EC-658B836F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0BE6D-2CA0-4EF3-A8B5-C18F1532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60C720-E2AD-4130-970E-D60168F0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82BA6-26B7-4A23-B40F-B373FE87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E271D5-935D-40F2-A811-ACFF4883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A379-16A5-497F-A00D-C078A3C5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DD43-3C01-4EB5-AB58-5395745E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8529-C955-44CC-B2CF-DCAB70D6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C1BD-2C42-44DB-A862-D2F456C1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ACF2-F8AB-4A3B-9811-BBC9F9F9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F8F9-A2E4-42C7-9420-B481600E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8D77-F9AA-40F5-A34F-CB7B6849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D752-5122-4D17-8217-715F1ABC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BF94-AB96-4465-A3BC-436BE2D7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8BDE-16DF-46F7-A6C7-49CE949B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4F478-2527-4110-A493-46810C60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699D6-FF55-4A30-8723-4EAF3A38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A02A7-BB3F-4DBE-8DCC-1B7BD3F3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8CAE1-EF82-41E9-88CB-A4D6FA13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1BF6F-DA07-47E6-B2F4-69D16F9F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24A-DB2E-4228-BD43-3B1A0158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8FEB9-6457-4CDF-81A9-969B3237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66782-5CB0-478C-9751-3A46889C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B30C0-58F3-4187-9562-07E9B391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9A74E-BCEF-41F3-8B14-87D21DBA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0EFB6-ECD2-42ED-A7F9-2B443661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4552F-2CB7-4B56-8F8C-848FEC76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9A435-480B-4A83-A2A1-9795EFD2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5AC62-5C51-40AF-B1CA-CF826D12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BC59C-D059-451C-8BDB-76602007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54601-9703-4124-96F5-794FBCD2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711-81BB-44D7-91F3-A7490863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EE42D-3F8D-462E-9E66-C1A0993C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92F45-E09E-4D21-A832-A7401527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3F78C-5364-411B-BDB7-0A9DA225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CA549-9D11-4B1E-82E1-6E293DAC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89C95-A2EB-4C49-92F1-BB640DFE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42C60-A8FD-4D05-B2BF-C3F6CEF4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CC5AF-54A7-420E-8A6D-287FA271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7A71F-301E-4EB6-B61E-C97404C4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D194E-D237-4CD8-8773-962920C3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2FDD3-0F89-442F-AEF8-D7637E36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310C-C10A-4AAD-BE61-9BF31745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FDD9F-4350-47F7-A40D-AA6BC240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9D6BF-91FC-4F71-80B3-2C382D90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0F5AA-5363-4ED9-8CFF-934B812B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8D7E4-3073-4F4B-95F4-1B1E1B10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19391-5AB8-47F6-B110-F33D10B0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96F28-888F-4C41-93BE-1E15903D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FDA8F-2995-4D61-A9B3-D458A571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E0403-4928-4E2B-89CC-26DF9566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03CDA-AE45-4FDC-A31A-458F1C51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F5A64-EDFA-4FDC-B016-532B8B72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C53D-FDCE-4352-A1C2-69AB078A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8FF9A-98EF-48B1-B237-6B9DD4F8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622AF-98CF-4758-89A1-B96E7177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91FD3-53F5-469B-A311-33DA1F40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6D8F3-9C99-488F-AB32-9E77D2E6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089BF-7210-434C-8F80-2C975D5A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E495C-B282-4FFC-9256-4FEB0F4A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1A25E-9076-46BC-95AF-D8947B2A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D7DBB-0A1A-4178-9FCD-2DA4BC1A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187F2-A603-404D-9CD1-2372FD56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554B6-BBC6-4F7A-9630-DED5CF87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ACE-F3DE-48C3-8FA5-FCFBF423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C3532-C2FF-452A-852D-7518F9E7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96D5C-5E9F-4EB3-B00E-F79F6182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75EFC-A897-4802-8E76-4C0EF882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8E958-2D91-4F04-A286-83130E8C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F8291-059A-4920-B647-D4CE8886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A490B-D133-4F86-8A6D-01CFD1BA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BD5F8-9455-4ED5-9C0F-1D6A64FE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76523-EF26-4560-93AD-7C7E3A01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A1073-FE98-4783-8DCD-A1305D6B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CA653-0DD3-4196-AE6F-61290E59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1B35-7475-48B1-A69B-C681751A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C07F3-1612-4C64-A769-38E18703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7DBE9-FE79-4A2A-9E30-64FBDFA0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27C40-88D3-4784-A2B4-06BA1A49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A822C-E666-4718-B132-EC8B553F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93459-1FA4-44DF-BE97-F4C3EA38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4E375-F439-4D02-9751-85F210C1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58F3F-0E2D-4F6A-9267-68749899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554A9-0166-4F20-80C6-BBAF83F3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E606E-DA96-40C0-B990-968EA3AB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FDCC5-150C-4A8F-B715-D888F8E0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590-A27D-4AB4-B6DE-A104376D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8C67A-8754-42E7-A4A4-44E93E61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34FC2-9C32-4AF0-B203-DC7FDF3C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9E271-4BBE-4E9C-B7C6-A786FB3D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BAD75-49FB-48C1-90C0-8F2C3719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8D4FC-5745-4A8E-B896-9172A92F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35E29-69D7-4124-A534-15DBA8A1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237A4-62B1-4928-840D-3D06861D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52FB5-33E2-4BF6-8F0F-48D3AFCD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BF4E8-C1D9-4122-9C9B-F321DF41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04370-C1D1-4D69-B762-1B7AB265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6916-1385-4B5F-87D6-FBC3250D5F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8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9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3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7C43-AAAA-48C1-A55B-8F35FC97CB5E}" type="slidenum">
              <a:rPr b="0" lang="ru-RU" sz="1000" spc="-1" strike="noStrike">
                <a:solidFill>
                  <a:srgbClr val="637052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2619-CCFE-49A8-A185-AEAFCA4602A0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791C-634F-4434-8C95-8B885A8A16ED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220B-78FD-4E28-9AA6-0DE43FDF3B32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E8AD-DB87-498C-ADD7-DF211E20AAA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B60A-9C04-4B8A-A83C-FF1BD3F0491F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36B2-D6D4-40FE-B26F-E8C034C7AB2B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139B-6B94-4F4F-88AB-9B03F89685FE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A3E8-9149-4C21-A741-2C0A54809C8B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267E-5648-4FDE-9AC1-DB2777D453BE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0B6B-996C-4B39-B4FF-BCA3E1841E4C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4DF6-C742-46CE-A08E-DCA3032BC0F1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6" descr="C:\Users\lebedev\Downloads\Шапка.jpg"/>
          <p:cNvPicPr/>
          <p:nvPr/>
        </p:nvPicPr>
        <p:blipFill>
          <a:blip r:embed="rId1"/>
          <a:stretch/>
        </p:blipFill>
        <p:spPr>
          <a:xfrm>
            <a:off x="250920" y="73080"/>
            <a:ext cx="8642160" cy="1584360"/>
          </a:xfrm>
          <a:prstGeom prst="rect">
            <a:avLst/>
          </a:prstGeom>
          <a:ln w="0">
            <a:noFill/>
          </a:ln>
        </p:spPr>
      </p:pic>
      <p:sp>
        <p:nvSpPr>
          <p:cNvPr id="573" name="Прямоугольник 5"/>
          <p:cNvSpPr/>
          <p:nvPr/>
        </p:nvSpPr>
        <p:spPr>
          <a:xfrm>
            <a:off x="125280" y="4100400"/>
            <a:ext cx="8893440" cy="26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ac"/>
                </a:solidFill>
                <a:latin typeface="Calibri"/>
                <a:ea typeface="Arial"/>
              </a:rPr>
              <a:t> </a:t>
            </a:r>
            <a:r>
              <a:rPr b="1" lang="ru-RU" sz="2400" spc="-1" strike="noStrike">
                <a:solidFill>
                  <a:srgbClr val="0064ac"/>
                </a:solidFill>
                <a:latin typeface="Calibri"/>
                <a:ea typeface="Arial"/>
              </a:rPr>
              <a:t>Ведущие мастер-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64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4ac"/>
                </a:solidFill>
                <a:latin typeface="Calibri"/>
                <a:ea typeface="Arial"/>
              </a:rPr>
              <a:t>Смирнова  Алевтина Николаевна</a:t>
            </a:r>
            <a:r>
              <a:rPr b="0" lang="ru-RU" sz="2300" spc="-1" strike="noStrike">
                <a:solidFill>
                  <a:srgbClr val="0064ac"/>
                </a:solidFill>
                <a:latin typeface="Calibri"/>
                <a:ea typeface="Arial"/>
              </a:rPr>
              <a:t>, к.п.н., проректор ГАУ ДПО Ярославской области «Институт развития образования» (ИРО), координатор по направлению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64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4ac"/>
                </a:solidFill>
                <a:latin typeface="Calibri"/>
                <a:ea typeface="Arial"/>
              </a:rPr>
              <a:t>Редченкова Галина Дмитриевна</a:t>
            </a:r>
            <a:r>
              <a:rPr b="0" lang="ru-RU" sz="2300" spc="-1" strike="noStrike">
                <a:solidFill>
                  <a:srgbClr val="0064ac"/>
                </a:solidFill>
                <a:latin typeface="Calibri"/>
                <a:ea typeface="Arial"/>
              </a:rPr>
              <a:t>,</a:t>
            </a:r>
            <a:r>
              <a:rPr b="1" lang="ru-RU" sz="2300" spc="-1" strike="noStrike">
                <a:solidFill>
                  <a:srgbClr val="0064ac"/>
                </a:solidFill>
                <a:latin typeface="Calibri"/>
                <a:ea typeface="Arial"/>
              </a:rPr>
              <a:t> </a:t>
            </a:r>
            <a:r>
              <a:rPr b="0" lang="ru-RU" sz="2300" spc="-1" strike="noStrike">
                <a:solidFill>
                  <a:srgbClr val="0064ac"/>
                </a:solidFill>
                <a:latin typeface="Calibri"/>
                <a:ea typeface="Arial"/>
              </a:rPr>
              <a:t>руководитель Информационного центра ИР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64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4ac"/>
                </a:solidFill>
                <a:latin typeface="Calibri"/>
                <a:ea typeface="Arial"/>
              </a:rPr>
              <a:t>Успенская Светлана Владимировна</a:t>
            </a:r>
            <a:r>
              <a:rPr b="0" lang="ru-RU" sz="2300" spc="-1" strike="noStrike">
                <a:solidFill>
                  <a:srgbClr val="0064ac"/>
                </a:solidFill>
                <a:latin typeface="Calibri"/>
                <a:ea typeface="Arial"/>
              </a:rPr>
              <a:t>, заместитель руководителя Информационного центра ИР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Прямоугольник 7"/>
          <p:cNvSpPr/>
          <p:nvPr/>
        </p:nvSpPr>
        <p:spPr>
          <a:xfrm>
            <a:off x="250920" y="1773360"/>
            <a:ext cx="8642160" cy="24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  <a:ea typeface="Arial"/>
              </a:rPr>
              <a:t>Информационно-библиотечные центры </a:t>
            </a:r>
            <a:br>
              <a:rPr sz="3400"/>
            </a:br>
            <a:r>
              <a:rPr b="1" lang="ru-RU" sz="3400" spc="-1" strike="noStrike">
                <a:solidFill>
                  <a:srgbClr val="002060"/>
                </a:solidFill>
                <a:latin typeface="Calibri"/>
                <a:ea typeface="Arial"/>
              </a:rPr>
              <a:t>в системе модернизации образовани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Региональный ИБЦ: новая роль, новые задачи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(из опыта Ярославского регио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08000" y="44280"/>
            <a:ext cx="1295280" cy="129708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216080" y="259920"/>
            <a:ext cx="79279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Описание условий готовности организации к созданию школьного информационно-библиотечного центр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192240" y="1413000"/>
          <a:ext cx="8772480" cy="5367240"/>
        </p:xfrm>
        <a:graphic>
          <a:graphicData uri="http://schemas.openxmlformats.org/drawingml/2006/table">
            <a:tbl>
              <a:tblPr/>
              <a:tblGrid>
                <a:gridCol w="1066680"/>
                <a:gridCol w="7705800"/>
              </a:tblGrid>
              <a:tr h="3054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в библио-теке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оны длительного абоне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оны абонемента открытого досту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оны коллективной и индивидуальной работы с ресур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зентационной з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менее 1 компьютера с доступом к сети Интер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-F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сти для пользователей библиотеки подключить собственные устройства (планшет, смартфон и др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ических средств (принтера, сканера либо многофункционального устройства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ального оборудования на рабочем месте сотрудника библиотеки, обеспечивающего доступ к электронной библиотечной сис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31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в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трудника библиотеки, для которого данное рабочее место является основн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ещения, имеющего презентационное оборудование для проведения массовых меро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ещения, имеющего презентационное оборудование для проведения массовых меро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ещения с ограниченным доступом для размещения оборудования для установки программного обеспечения для поддержки информационно-образовательной среды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11592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659" name="TextBox 5"/>
          <p:cNvSpPr/>
          <p:nvPr/>
        </p:nvSpPr>
        <p:spPr>
          <a:xfrm>
            <a:off x="101520" y="1589040"/>
            <a:ext cx="90075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Описание включает в себя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Цель и задачи деятельности информационно-библиотечного центра образовательной организации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(ИБЦ ОО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Место и роль ИБЦ ОО в информационно-образовательном процессе О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Механизмы взаимодействия ИБЦ ОО с участниками образовательного процесс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16080" y="259920"/>
            <a:ext cx="79279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Описание перспективного видения школьного информационно-библиотечного центр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5"/>
          <p:cNvSpPr/>
          <p:nvPr/>
        </p:nvSpPr>
        <p:spPr>
          <a:xfrm>
            <a:off x="63360" y="5084640"/>
            <a:ext cx="907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атериалы ОО оцениваются п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тепени полноты и проработанности предлагаемых позиц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. Особенно учитывается то, как ОО сумели отразить специфику ОО (сильные стороны ОО, направления деятельности и т.д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4428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663" name="TextBox 5"/>
          <p:cNvSpPr/>
          <p:nvPr/>
        </p:nvSpPr>
        <p:spPr>
          <a:xfrm>
            <a:off x="0" y="1486080"/>
            <a:ext cx="910908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  <a:ea typeface="Arial"/>
              </a:rPr>
              <a:t>Критерии оценк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Arial"/>
              </a:rPr>
              <a:t>5 баллов – описание полностью раскрывает цель, задачи деятельности ИБЦ, место и роль ИБЦ в образовательном процессе, механизмы взаимодействия ИБЦ с участниками образовательного процесса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Arial"/>
              </a:rPr>
              <a:t>4 балла – описание полностью раскрывает цель, задачи деятельности ИБЦ; место и роль ИБЦ в образовательном процессе раскрыты в достаточной степени; механизмы взаимодействия ИБЦ с участниками образовательного процесса описаны частично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Arial"/>
              </a:rPr>
              <a:t>3 балла – описание полностью раскрывает цель, задачи деятельности ИБЦ; место и роль ИБЦ в образовательном процессе раскрыты частично; механизмы взаимодействия ИБЦ с участниками образовательного процесса не раскрыты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Arial"/>
              </a:rPr>
              <a:t>2 балла – описание раскрывает цель, задачи деятельности ИБЦ; место и роль ИБЦ в образовательном процессе описаны частично; механизмы взаимодействия ИБЦ с участниками образовательного процесса не раскрыты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Arial"/>
              </a:rPr>
              <a:t>1 балл – описание раскрывает цель, задачи деятельности ИБЦ; место и роль ИБЦ в образовательном процессе не раскрыты; механизмы взаимодействия ИБЦ с участниками образовательного процесса не описан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16080" y="259920"/>
            <a:ext cx="79279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Описание перспективного видения школьного информационно-библиотечного центр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Группа 13"/>
          <p:cNvGrpSpPr/>
          <p:nvPr/>
        </p:nvGrpSpPr>
        <p:grpSpPr>
          <a:xfrm>
            <a:off x="4714920" y="1125360"/>
            <a:ext cx="4537080" cy="4923000"/>
            <a:chOff x="4714920" y="1125360"/>
            <a:chExt cx="4537080" cy="4923000"/>
          </a:xfrm>
        </p:grpSpPr>
        <p:pic>
          <p:nvPicPr>
            <p:cNvPr id="666" name="Picture 2" descr="karta"/>
            <p:cNvPicPr/>
            <p:nvPr/>
          </p:nvPicPr>
          <p:blipFill>
            <a:blip r:embed="rId1"/>
            <a:stretch/>
          </p:blipFill>
          <p:spPr>
            <a:xfrm>
              <a:off x="4714920" y="1125360"/>
              <a:ext cx="4537080" cy="492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5-конечная звезда 8"/>
            <p:cNvSpPr/>
            <p:nvPr/>
          </p:nvSpPr>
          <p:spPr>
            <a:xfrm>
              <a:off x="6892920" y="2082600"/>
              <a:ext cx="58680" cy="68040"/>
            </a:xfrm>
            <a:custGeom>
              <a:avLst/>
              <a:gdLst/>
              <a:ahLst/>
              <a:rect l="l" t="t" r="r" b="b"/>
              <a:pathLst>
                <a:path w="46242" h="45832">
                  <a:moveTo>
                    <a:pt x="0" y="17506"/>
                  </a:moveTo>
                  <a:lnTo>
                    <a:pt x="17663" y="17506"/>
                  </a:lnTo>
                  <a:lnTo>
                    <a:pt x="23121" y="0"/>
                  </a:lnTo>
                  <a:lnTo>
                    <a:pt x="28579" y="17506"/>
                  </a:lnTo>
                  <a:lnTo>
                    <a:pt x="-19294" y="17506"/>
                  </a:lnTo>
                  <a:lnTo>
                    <a:pt x="31952" y="28326"/>
                  </a:lnTo>
                  <a:lnTo>
                    <a:pt x="-28125" y="-19704"/>
                  </a:lnTo>
                  <a:lnTo>
                    <a:pt x="23121" y="-30524"/>
                  </a:lnTo>
                  <a:lnTo>
                    <a:pt x="8831" y="-19704"/>
                  </a:lnTo>
                  <a:lnTo>
                    <a:pt x="14290" y="28326"/>
                  </a:lnTo>
                  <a:lnTo>
                    <a:pt x="0" y="17506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5-конечная звезда 9"/>
            <p:cNvSpPr/>
            <p:nvPr/>
          </p:nvSpPr>
          <p:spPr>
            <a:xfrm>
              <a:off x="6440400" y="2935080"/>
              <a:ext cx="56880" cy="68040"/>
            </a:xfrm>
            <a:custGeom>
              <a:avLst/>
              <a:gdLst/>
              <a:ahLst/>
              <a:rect l="l" t="t" r="r" b="b"/>
              <a:pathLst>
                <a:path w="44992" h="45831">
                  <a:moveTo>
                    <a:pt x="0" y="17506"/>
                  </a:moveTo>
                  <a:lnTo>
                    <a:pt x="17186" y="17506"/>
                  </a:lnTo>
                  <a:lnTo>
                    <a:pt x="22496" y="0"/>
                  </a:lnTo>
                  <a:lnTo>
                    <a:pt x="27806" y="17506"/>
                  </a:lnTo>
                  <a:lnTo>
                    <a:pt x="-20544" y="17506"/>
                  </a:lnTo>
                  <a:lnTo>
                    <a:pt x="31089" y="28325"/>
                  </a:lnTo>
                  <a:lnTo>
                    <a:pt x="-29137" y="-19705"/>
                  </a:lnTo>
                  <a:lnTo>
                    <a:pt x="22496" y="-30524"/>
                  </a:lnTo>
                  <a:lnTo>
                    <a:pt x="8593" y="-19705"/>
                  </a:lnTo>
                  <a:lnTo>
                    <a:pt x="13903" y="28325"/>
                  </a:lnTo>
                  <a:lnTo>
                    <a:pt x="0" y="17506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5-конечная звезда 10"/>
            <p:cNvSpPr/>
            <p:nvPr/>
          </p:nvSpPr>
          <p:spPr>
            <a:xfrm>
              <a:off x="7709040" y="3784680"/>
              <a:ext cx="58680" cy="68040"/>
            </a:xfrm>
            <a:custGeom>
              <a:avLst/>
              <a:gdLst/>
              <a:ahLst/>
              <a:rect l="l" t="t" r="r" b="b"/>
              <a:pathLst>
                <a:path w="46242" h="45832">
                  <a:moveTo>
                    <a:pt x="0" y="17506"/>
                  </a:moveTo>
                  <a:lnTo>
                    <a:pt x="17663" y="17506"/>
                  </a:lnTo>
                  <a:lnTo>
                    <a:pt x="23121" y="0"/>
                  </a:lnTo>
                  <a:lnTo>
                    <a:pt x="28579" y="17506"/>
                  </a:lnTo>
                  <a:lnTo>
                    <a:pt x="-19294" y="17506"/>
                  </a:lnTo>
                  <a:lnTo>
                    <a:pt x="31952" y="28326"/>
                  </a:lnTo>
                  <a:lnTo>
                    <a:pt x="-28125" y="-19704"/>
                  </a:lnTo>
                  <a:lnTo>
                    <a:pt x="23121" y="-30524"/>
                  </a:lnTo>
                  <a:lnTo>
                    <a:pt x="8831" y="-19704"/>
                  </a:lnTo>
                  <a:lnTo>
                    <a:pt x="14290" y="28326"/>
                  </a:lnTo>
                  <a:lnTo>
                    <a:pt x="0" y="17506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5-конечная звезда 11"/>
            <p:cNvSpPr/>
            <p:nvPr/>
          </p:nvSpPr>
          <p:spPr>
            <a:xfrm>
              <a:off x="6529320" y="5489640"/>
              <a:ext cx="58680" cy="64800"/>
            </a:xfrm>
            <a:custGeom>
              <a:avLst/>
              <a:gdLst/>
              <a:ahLst/>
              <a:rect l="l" t="t" r="r" b="b"/>
              <a:pathLst>
                <a:path w="46242" h="43700">
                  <a:moveTo>
                    <a:pt x="0" y="16692"/>
                  </a:moveTo>
                  <a:lnTo>
                    <a:pt x="17663" y="16692"/>
                  </a:lnTo>
                  <a:lnTo>
                    <a:pt x="23121" y="0"/>
                  </a:lnTo>
                  <a:lnTo>
                    <a:pt x="28579" y="16692"/>
                  </a:lnTo>
                  <a:lnTo>
                    <a:pt x="-19294" y="16692"/>
                  </a:lnTo>
                  <a:lnTo>
                    <a:pt x="31952" y="27008"/>
                  </a:lnTo>
                  <a:lnTo>
                    <a:pt x="-28125" y="-21836"/>
                  </a:lnTo>
                  <a:lnTo>
                    <a:pt x="23121" y="-32152"/>
                  </a:lnTo>
                  <a:lnTo>
                    <a:pt x="8831" y="-21836"/>
                  </a:lnTo>
                  <a:lnTo>
                    <a:pt x="14290" y="27008"/>
                  </a:lnTo>
                  <a:lnTo>
                    <a:pt x="0" y="1669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1" name="Рисунок 1" descr=""/>
          <p:cNvPicPr/>
          <p:nvPr/>
        </p:nvPicPr>
        <p:blipFill>
          <a:blip r:embed="rId2"/>
          <a:srcRect l="1674" t="9085" r="83338" b="9130"/>
          <a:stretch/>
        </p:blipFill>
        <p:spPr>
          <a:xfrm>
            <a:off x="179280" y="11592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672" name="TextBox 5"/>
          <p:cNvSpPr/>
          <p:nvPr/>
        </p:nvSpPr>
        <p:spPr>
          <a:xfrm>
            <a:off x="55440" y="2263680"/>
            <a:ext cx="516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2016 го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20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ОО, из которых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4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ОО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определены как ОПОРНЫ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Опорными стали ОО, занявшие в конкурсном рейтинге первые четыре мес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Заголовок 1"/>
          <p:cNvSpPr/>
          <p:nvPr/>
        </p:nvSpPr>
        <p:spPr>
          <a:xfrm>
            <a:off x="1285920" y="-176040"/>
            <a:ext cx="79279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Arial"/>
              </a:rPr>
              <a:t>Конкурсный отбор ОО Ярославской области </a:t>
            </a:r>
            <a:br>
              <a:rPr sz="2600"/>
            </a:b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Arial"/>
              </a:rPr>
              <a:t>по направлению «Модернизация организационно-технологической инфраструктуры и обновления фондов школьных библиотек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5"/>
          <p:cNvSpPr/>
          <p:nvPr/>
        </p:nvSpPr>
        <p:spPr>
          <a:xfrm>
            <a:off x="101520" y="5253120"/>
            <a:ext cx="900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2017 го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обедителями будут объявлены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40 ОО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20 апреля 2017 г. завершен прием заявок ОО на участие в Конкурсном отборе 2017 го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11592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676" name="TextBox 5"/>
          <p:cNvSpPr/>
          <p:nvPr/>
        </p:nvSpPr>
        <p:spPr>
          <a:xfrm>
            <a:off x="971640" y="184464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ан Проект Соглашения между ИРО и 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763280" y="439560"/>
            <a:ext cx="64515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Проекты докумен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73612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Мониторинг состояния школьных библиотек среди ОО-участников региональной се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Прямоугольник 2"/>
          <p:cNvSpPr/>
          <p:nvPr/>
        </p:nvSpPr>
        <p:spPr>
          <a:xfrm>
            <a:off x="250920" y="1557360"/>
            <a:ext cx="86421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В сентябре 2016 г. АНО «Научно-исследовательский институт «Современная дидактика» провел мониторинг ОО, вошедших в региональную сеть ШИБЦ, с целью исследовать библиотеку как структурную составляющую информационно-образовательной среды ОО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Направления мониторинг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нормативно-правовая  база, кадровое обеспечение библиотеки, МТБ, согласованность действий участников образовательного процесса, информационно-ресурсное и программное обеспечение, библиотечный фон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Были выявлены дефицит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0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11592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73612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Мониторинг состояния школьных библиотек среди ОО-участников региональной се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Прямоугольник 2"/>
          <p:cNvSpPr/>
          <p:nvPr/>
        </p:nvSpPr>
        <p:spPr>
          <a:xfrm>
            <a:off x="108000" y="1557360"/>
            <a:ext cx="896472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адровое обеспе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обходимость курсовой подготовки по вопросам, связанным с новыми функциями ШИБЦ,  эффективным использованием ресурсов ШИБЦ в образовательном процессе (75%), развитием ИКТ-компетентности (20%)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сетевым взаимодействием школьных библиотек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30%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олько 25% респондентов отметили регулярное взаимодействие с другими ШИБЦ, 20% респондентов отметили отсутствие такого взаимодейств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Библиотечный фонд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мечается низкая укомплектованность медиаресурсами, основной фонд гораздо более изношен, чем фонд учебной литератур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3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11592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73612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Мониторинг состояния школьных библиотек среди ОО-участников региональной се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Прямоугольник 2"/>
          <p:cNvSpPr/>
          <p:nvPr/>
        </p:nvSpPr>
        <p:spPr>
          <a:xfrm>
            <a:off x="108000" y="1557360"/>
            <a:ext cx="896472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ериально-техническая ба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75% ШИБЦ существует зонирование помещений (территориально выделены такие зоны как читальный зал, абонемент, книгохранилище, помещение для обслуживания читателей и другие специализированные помеще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и этом общую площадь более 100 кв. м. имеют только 35%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25% ШИБЦ нет зонирования помещений (площадь библиотек до 50 кв. м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11592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687" name="TextBox 3"/>
          <p:cNvSpPr/>
          <p:nvPr/>
        </p:nvSpPr>
        <p:spPr>
          <a:xfrm>
            <a:off x="177840" y="4856040"/>
            <a:ext cx="887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 2017 году планируется проведение мониторинг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водный (начальный результат измерений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– для новых участников сети – победителей конкурсного отбора 2017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межуточны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– для победителей конкурсного отбора 2016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858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Программы обучения (ДП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Прямоугольник 2"/>
          <p:cNvSpPr/>
          <p:nvPr/>
        </p:nvSpPr>
        <p:spPr>
          <a:xfrm>
            <a:off x="54000" y="1609560"/>
            <a:ext cx="9036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  <a:ea typeface="Arial"/>
              </a:rPr>
              <a:t>Ключевая идея – обучение команд ОО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  <a:ea typeface="Arial"/>
              </a:rPr>
              <a:t>(зам. директора по УВР (директор), библиотекарь, учитель-предметник, учитель информатики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  <a:ea typeface="Arial"/>
              </a:rPr>
              <a:t>Проведение обучение в два этапа 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0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4428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691" name="Прямоугольник 4"/>
          <p:cNvSpPr/>
          <p:nvPr/>
        </p:nvSpPr>
        <p:spPr>
          <a:xfrm>
            <a:off x="90360" y="3645000"/>
            <a:ext cx="896328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-й этап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ППК «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Информационно-библиотечный центр образовательной организации» (48 час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Прямоугольник 5"/>
          <p:cNvSpPr/>
          <p:nvPr/>
        </p:nvSpPr>
        <p:spPr>
          <a:xfrm>
            <a:off x="66600" y="5084640"/>
            <a:ext cx="89647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I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-й этап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ППК «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етевое взаимодействие школьных ИБЦ» (36 час.)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пределение механизмов взаимодействия (договоренности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858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Программы обучения (ДП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4428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695" name="Прямоугольник 6"/>
          <p:cNvSpPr/>
          <p:nvPr/>
        </p:nvSpPr>
        <p:spPr>
          <a:xfrm>
            <a:off x="0" y="1052640"/>
            <a:ext cx="9129600" cy="55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й этап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(сентябрь-октябрь 2016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ПК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«Информационно-библиотечный центр ОО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(48 час.) Модул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 (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инвариант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).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Нормативные и правовые аспекты деятельности ИБЦ ОО в контексте ФГОС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(целевая группа – команда педагогов ОО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 (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вариатив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).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Автоматизированная информационно-библиотечная система (АИБС) «МАРК-SQL»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(целевая группа – библиотекари ОО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 (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вариатив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).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Настройка и управление программным комплексом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(целевая группа – учителя информатики – администраторы программного комплекса ILIA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4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вариатив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).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Основные элементы программного комплекса для расширения функций ИБЦ ОО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(целевая группа – учителя-предметники, руководители / заместители руководителей, администраторы программного комплекса ILIA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 (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вариатив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).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Проектирование элементов виртуального образовательного пространства на базе ИБЦ ОО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(целевая группа – педагоги-предметники, руководители / заместители руководите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11592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576" name="TextBox 5"/>
          <p:cNvSpPr/>
          <p:nvPr/>
        </p:nvSpPr>
        <p:spPr>
          <a:xfrm>
            <a:off x="101520" y="1589040"/>
            <a:ext cx="90075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онцепция региональной сети информационно-библиотечных центров образовательных организаций Ярославск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акет документов по конкурсному отбору образовательных организа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етодические рекомендации по созданию региональной сети информационно-библиотечных центрова общеобразовательных организаций (ИБЦ О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мерное положения о ШИБ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ложение о региональном ИБ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граммы повышения квалификации команд педагогов О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(два этапа обучения, объем 48 часов и 36 ча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ГАУ ДПО ЯО ИРО продолжает реализацию проекта в 2017-2018 г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16080" y="260280"/>
            <a:ext cx="6740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В регионе разработа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Рисунок 4" descr="iro__87x87.png"/>
          <p:cNvPicPr/>
          <p:nvPr/>
        </p:nvPicPr>
        <p:blipFill>
          <a:blip r:embed="rId2"/>
          <a:stretch/>
        </p:blipFill>
        <p:spPr>
          <a:xfrm>
            <a:off x="7524720" y="115920"/>
            <a:ext cx="114300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2" descr="http://www.iro.yar.ru/fileadmin/_processed_/csm_modul1_mar_cad3a74ecb.jpg"/>
          <p:cNvPicPr/>
          <p:nvPr/>
        </p:nvPicPr>
        <p:blipFill>
          <a:blip r:embed="rId1"/>
          <a:stretch/>
        </p:blipFill>
        <p:spPr>
          <a:xfrm>
            <a:off x="3240" y="1268280"/>
            <a:ext cx="9140760" cy="50133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858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Программы обучения (ДП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Рисунок 1" descr=""/>
          <p:cNvPicPr/>
          <p:nvPr/>
        </p:nvPicPr>
        <p:blipFill>
          <a:blip r:embed="rId2"/>
          <a:srcRect l="1674" t="9085" r="83338" b="9130"/>
          <a:stretch/>
        </p:blipFill>
        <p:spPr>
          <a:xfrm>
            <a:off x="179280" y="4428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699" name="Прямоугольник 6"/>
          <p:cNvSpPr/>
          <p:nvPr/>
        </p:nvSpPr>
        <p:spPr>
          <a:xfrm>
            <a:off x="165240" y="938160"/>
            <a:ext cx="8964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-й этап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ППК «Информационно-библиотечный центр ОО» (48 час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Прямоугольник 8"/>
          <p:cNvSpPr/>
          <p:nvPr/>
        </p:nvSpPr>
        <p:spPr>
          <a:xfrm>
            <a:off x="200160" y="6127920"/>
            <a:ext cx="896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тоговые продукты обучения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грамма развития ИБЦ ОО; электронные дидактические материалы, представленные 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LIA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1" name="Соединительная линия уступом 3"/>
          <p:cNvCxnSpPr/>
          <p:nvPr/>
        </p:nvCxnSpPr>
        <p:spPr>
          <a:xfrm flipH="1" rot="16200000">
            <a:off x="1079280" y="4329720"/>
            <a:ext cx="1944000" cy="1151640"/>
          </a:xfrm>
          <a:prstGeom prst="bentConnector3">
            <a:avLst>
              <a:gd name="adj1" fmla="val 100370"/>
            </a:avLst>
          </a:prstGeom>
          <a:ln w="255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702" name="Соединительная линия уступом 6"/>
          <p:cNvCxnSpPr/>
          <p:nvPr/>
        </p:nvCxnSpPr>
        <p:spPr>
          <a:xfrm flipH="1">
            <a:off x="6372000" y="4653000"/>
            <a:ext cx="1296000" cy="1224720"/>
          </a:xfrm>
          <a:prstGeom prst="bentConnector3">
            <a:avLst>
              <a:gd name="adj1" fmla="val -4167"/>
            </a:avLst>
          </a:prstGeom>
          <a:ln w="25560">
            <a:solidFill>
              <a:srgbClr val="00206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858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Программы обучения (ДП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4428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705" name="Прямоугольник 4"/>
          <p:cNvSpPr/>
          <p:nvPr/>
        </p:nvSpPr>
        <p:spPr>
          <a:xfrm>
            <a:off x="90360" y="1149480"/>
            <a:ext cx="896328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I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-й этап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(апрель 2017 г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ППК «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етевое взаимодействие школьных ИБЦ» (36 час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Прямоугольник 5"/>
          <p:cNvSpPr/>
          <p:nvPr/>
        </p:nvSpPr>
        <p:spPr>
          <a:xfrm>
            <a:off x="90360" y="2068560"/>
            <a:ext cx="896328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Ключевые идеи программы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смотреть вопросы управления развитием школьного ИБЦ, используя программу развития ИБЦ ОО, возможности сетевого взаимодействия школьных ИБЦ как фактора инновационного развит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ложить механизмы соорганизации деятельности ШИБЦ в рамках сетевого взаимодействия, совместно разработать проекты регламентов сетевого взаимодействия по направлениям деятельности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истематизация и экспертиза ИОР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формирование общей базы ИОР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организация сетевых образовательных событий в едином информационно-образовательном пространств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858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Программы обучения (ДП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4428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оугольник 4"/>
          <p:cNvSpPr/>
          <p:nvPr/>
        </p:nvSpPr>
        <p:spPr>
          <a:xfrm>
            <a:off x="90360" y="933480"/>
            <a:ext cx="896328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I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-й этап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(апрель 2017 г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ППК «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етевое взаимодействие школьных ИБЦ» (36 час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Прямоугольник 5"/>
          <p:cNvSpPr/>
          <p:nvPr/>
        </p:nvSpPr>
        <p:spPr>
          <a:xfrm>
            <a:off x="90360" y="1693800"/>
            <a:ext cx="8963280" cy="51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Сетевое взаимодействие как ресурс развития ШИБЦ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Освоение инструментов конкретизации плана стратегических действий по приоритетной цели развития сетевого взаимодейств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Систематизация и экспертиза информационно-образовательных ресурсов (методических продуктов)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(к занятиям подключаются сотрудники предметных кафедр ИРО)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римеры инструментов: функции – методическое обеспечение, карта описания методического продукта)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Организация взаимодействия в сети Интерне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тоговые продукты обучения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екты регламентов подготовки методического продукта к размещению в базе ИОР региональной сети ШИБЦ и формирования базы ИОР региональной сети ШИБЦ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ектный замысел совместного сетевого образовательного проекта (события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говоренности о принципах создания экспертного сообщества региональной сети ШИБ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890720" y="188640"/>
            <a:ext cx="6858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Посткурсовое сопровождение команд О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2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4428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713" name="Прямоугольник 4"/>
          <p:cNvSpPr/>
          <p:nvPr/>
        </p:nvSpPr>
        <p:spPr>
          <a:xfrm>
            <a:off x="81000" y="1268280"/>
            <a:ext cx="8964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Программы ДПО – лишь «запускающий» компонент системы непрерывного образования педагогов.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Прямоугольник 5"/>
          <p:cNvSpPr/>
          <p:nvPr/>
        </p:nvSpPr>
        <p:spPr>
          <a:xfrm>
            <a:off x="0" y="1962000"/>
            <a:ext cx="91440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чные семина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базе 4-х опорных ШИБЦ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(2017, 1-е полугодие – 2, 2-е полугодие – 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509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16 марта 2017 г.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«Формирование экологической культуры обучающихся средствами ИБЦ гимназии №8 им. Л.М. Марасиновой»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(г. Рыбинск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509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10 мая 2017 г.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«Ресурсы ИБЦ для организации учебно-исследовательской деятельности обучающихся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(МОУ Лицей №86 г.Ярославль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ебинары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региональные, межрегиональные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509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6 марта 2017 г.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«Новые возможности проекта «ЛитРес: Школа»: расширение каталога, использование QR-кодов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 участием специалистов компании «ЛитРес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509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4 мая 2017 г.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«Проблемы, возникающие при внедрении платформы ILIAS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(для администраторов системы в ОО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ворческие группы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конкретным темам (проблемам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иртуальные обучающие площад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209520" y="44280"/>
            <a:ext cx="1193760" cy="1194120"/>
          </a:xfrm>
          <a:prstGeom prst="rect">
            <a:avLst/>
          </a:prstGeom>
          <a:ln w="0">
            <a:noFill/>
          </a:ln>
        </p:spPr>
      </p:pic>
      <p:sp>
        <p:nvSpPr>
          <p:cNvPr id="716" name="TextBox 5"/>
          <p:cNvSpPr/>
          <p:nvPr/>
        </p:nvSpPr>
        <p:spPr>
          <a:xfrm>
            <a:off x="28440" y="1203480"/>
            <a:ext cx="911556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аждый участник имеет свой определенный потенциал: мотивационный, материально-технический, кадровый, информационны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етевое взаимодействие – возможность его расшир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ак сделать сетевое взаимодействие действительно действующим инструментарием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акие условия для этого необходимы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овысить мотивацию педагогов (ОО) к взаимодействию, решению схожих проблем общими усилия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В ходе практической деятельности выявить условия для взаимодействия (организационные, содержательные), при этом важно, чтобы условия представлялись участникам сети естественными и неформальными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(пример создания в проектировочном режиме продуктов – принципы создания экспертного сообщества, структура портала ИБЦ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Выявить (вырастить) лидеров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, которые могли бы, в частности, инициировать ту или иную деятельно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редъявлять оформленные конкретные результаты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Заголовок 1"/>
          <p:cNvSpPr/>
          <p:nvPr/>
        </p:nvSpPr>
        <p:spPr>
          <a:xfrm>
            <a:off x="1216080" y="44280"/>
            <a:ext cx="7927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Сетевое взаимодействие ОО-участников региональной сети ШИБ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11592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5"/>
          <p:cNvSpPr/>
          <p:nvPr/>
        </p:nvSpPr>
        <p:spPr>
          <a:xfrm>
            <a:off x="95400" y="1916280"/>
            <a:ext cx="900720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словия для успешного осуществления взаимодейств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озможность индивидуальной и совместной коллективной деятельности участников региональной сети, в том числе по проектированию, разработке и использованию информационных и методических ресурсов, возможность проявления инициативы участниками с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бщее информационное простран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еханизмы, обеспечивающие соорганизацию деятельност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 с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92792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Сетевое взаимодействие ОО-участников региональной сети ШИБ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890720" y="188640"/>
            <a:ext cx="6858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Организация доступа к ресурсам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электронной библиоте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2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4428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723" name="Прямоугольник 4"/>
          <p:cNvSpPr/>
          <p:nvPr/>
        </p:nvSpPr>
        <p:spPr>
          <a:xfrm>
            <a:off x="90360" y="1341360"/>
            <a:ext cx="896328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2016 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Заключены соглашения между 20 ОО и ООО «Аудиокнига»/ ООО «Дрофа – Новая школа» по организации доступа к ресурсам электронной библиотеки «ЛитРЕС. Школа» (25 тыс. книговыдач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9280" y="270000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Круг пользовате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дагоги – 28,6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учающиеся – 48,2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одители – 0,3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амые активные читате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-4 кл. – 12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-9 кл. – 69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-11 кл. – 19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Наиболее востребованная литерату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ниги по школьной программе – 67,1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тература для внеклассного чтения – 29,9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ниги патриотической тематики – 3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47280" y="439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Использование ресурса ЛитРес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в работе ШИБ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50920" y="134100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Отзывы пользовате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лектронные книги удобно читать в дороге, или если срочно нужно в школе на урок, а дома предпочитаю читать книги на печатной основ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огда удобно, иногда нет, так как во многих случаях требуется печатное изда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добно читать не в школ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ычно нет книг, которые нужны по школьной программ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пактно, удоб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Проблем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полнение: не хватает справочной, научно-популярной, методической литерат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ехнические проблемы с фильтрацией сети Интернет. Проблемы решен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огда есть необходимость скачать книгу, а ЛитРес такой возможности не даё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44280"/>
            <a:ext cx="1008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Обеспечение доступа к ресурсам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электронных библиот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179280" y="1123560"/>
            <a:ext cx="8856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eLIBRARY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нотекстовые версии около 4000 иностранных и 3900 отечественных научных журналов, рефераты публикаций почти 20 тысяч журналов, описания полутора миллионов зарубежных и российских диссертаций. Свыше 2800 российских научных журналов размещены в бесплатном открытом доступе. Для доступа к остальным изданиям предлагается возможность подписаться или заказать отдельные публикации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сийская государственная библиот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учная литература, нотные коллекции, изо-издания, авторефераты диссертаций и др. Условия доступа – регистрац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ная электронная библиотека «Киберленин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иблиотека комплектуется научными статьями, публикуемыми в журналах России и ближнего зарубежья, в том числе, научных журналах, включённых в перечень ВАК РФ ведущих научных издательств для публикации результатов диссертационных исследований. Доступ открытый, бесплатны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сийская национальная библиот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иск ресурсов с помощью электронного каталога. В открытом доступе только часть фонда. Представлены электронные копии книг и журналов, авторефератов различных разделов: медицина, педагогика, психология и т.д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ная педагогическая библиотека им. К. Д. Ушинского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крытый доступ к электронному каталогу, возможна доставка документов. В разделе базы данных работает полнотекстовая база данных авторефератов; представлены издания библиотеки. Условия доступа - регист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спектив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тадии подписания договор с Национальной электронной библиотекой (НЭБ), есть договорённости о сотрудничестве с Президентской библиотек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0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4428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2048040" y="11160"/>
            <a:ext cx="5040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69680" y="122400"/>
            <a:ext cx="7294680" cy="506160"/>
          </a:xfrm>
          <a:prstGeom prst="rect">
            <a:avLst/>
          </a:prstGeom>
          <a:noFill/>
          <a:ln w="0">
            <a:noFill/>
          </a:ln>
        </p:spPr>
        <p:txBody>
          <a:bodyPr lIns="18000" rIns="180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 Light"/>
                <a:ea typeface="Arial"/>
              </a:rPr>
              <a:t>Опыт региональных инновационных площадок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grpSp>
        <p:nvGrpSpPr>
          <p:cNvPr id="580" name="Группа 22"/>
          <p:cNvGrpSpPr/>
          <p:nvPr/>
        </p:nvGrpSpPr>
        <p:grpSpPr>
          <a:xfrm>
            <a:off x="338760" y="416520"/>
            <a:ext cx="3930480" cy="2465640"/>
            <a:chOff x="338760" y="416520"/>
            <a:chExt cx="3930480" cy="2465640"/>
          </a:xfrm>
        </p:grpSpPr>
        <p:sp>
          <p:nvSpPr>
            <p:cNvPr id="581" name="Oval 4"/>
            <p:cNvSpPr/>
            <p:nvPr/>
          </p:nvSpPr>
          <p:spPr>
            <a:xfrm rot="20601600">
              <a:off x="477000" y="944280"/>
              <a:ext cx="3457800" cy="1473480"/>
            </a:xfrm>
            <a:prstGeom prst="ellipse">
              <a:avLst/>
            </a:pr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Oval 5"/>
            <p:cNvSpPr/>
            <p:nvPr/>
          </p:nvSpPr>
          <p:spPr>
            <a:xfrm rot="20601600">
              <a:off x="510840" y="864720"/>
              <a:ext cx="3338640" cy="1427400"/>
            </a:xfrm>
            <a:prstGeom prst="ellipse">
              <a:avLst/>
            </a:pr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rc 6"/>
            <p:cNvSpPr/>
            <p:nvPr/>
          </p:nvSpPr>
          <p:spPr>
            <a:xfrm rot="20601600">
              <a:off x="2101680" y="901440"/>
              <a:ext cx="1709640" cy="754200"/>
            </a:xfrm>
            <a:custGeom>
              <a:avLst/>
              <a:gdLst>
                <a:gd name="textAreaLeft" fmla="*/ 0 w 1709640"/>
                <a:gd name="textAreaRight" fmla="*/ 1710000 w 170964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rc 7"/>
            <p:cNvSpPr/>
            <p:nvPr/>
          </p:nvSpPr>
          <p:spPr>
            <a:xfrm flipH="1" rot="20602200">
              <a:off x="543960" y="1544040"/>
              <a:ext cx="1725840" cy="795240"/>
            </a:xfrm>
            <a:custGeom>
              <a:avLst/>
              <a:gdLst>
                <a:gd name="textAreaLeft" fmla="*/ 360 w 1725840"/>
                <a:gd name="textAreaRight" fmla="*/ 1726560 w 172584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solidFill>
              <a:srgbClr val="dad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Arc 8"/>
            <p:cNvSpPr/>
            <p:nvPr/>
          </p:nvSpPr>
          <p:spPr>
            <a:xfrm rot="20601600">
              <a:off x="1647360" y="765000"/>
              <a:ext cx="1687680" cy="69840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dad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Arc 9"/>
            <p:cNvSpPr/>
            <p:nvPr/>
          </p:nvSpPr>
          <p:spPr>
            <a:xfrm flipH="1" rot="20602200">
              <a:off x="423360" y="1088280"/>
              <a:ext cx="1657440" cy="674280"/>
            </a:xfrm>
            <a:custGeom>
              <a:avLst/>
              <a:gdLst>
                <a:gd name="textAreaLeft" fmla="*/ 360 w 1657440"/>
                <a:gd name="textAreaRight" fmla="*/ 1658160 w 1657440"/>
                <a:gd name="textAreaTop" fmla="*/ 0 h 674280"/>
                <a:gd name="textAreaBottom" fmla="*/ 674280 h 67428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Oval 10"/>
            <p:cNvSpPr/>
            <p:nvPr/>
          </p:nvSpPr>
          <p:spPr>
            <a:xfrm rot="20601600">
              <a:off x="1387440" y="1213920"/>
              <a:ext cx="1617840" cy="654120"/>
            </a:xfrm>
            <a:prstGeom prst="ellipse">
              <a:avLst/>
            </a:prstGeom>
            <a:solidFill>
              <a:srgbClr val="0c4c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4"/>
            <p:cNvSpPr/>
            <p:nvPr/>
          </p:nvSpPr>
          <p:spPr>
            <a:xfrm>
              <a:off x="3381480" y="1360440"/>
              <a:ext cx="777960" cy="83520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Arc 15"/>
            <p:cNvSpPr/>
            <p:nvPr/>
          </p:nvSpPr>
          <p:spPr>
            <a:xfrm rot="20539200">
              <a:off x="2420640" y="1363320"/>
              <a:ext cx="1790640" cy="65736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657360"/>
                <a:gd name="textAreaBottom" fmla="*/ 657720 h 65736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f3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6"/>
            <p:cNvSpPr/>
            <p:nvPr/>
          </p:nvSpPr>
          <p:spPr>
            <a:xfrm>
              <a:off x="2361960" y="1593720"/>
              <a:ext cx="1055520" cy="604800"/>
            </a:xfrm>
            <a:custGeom>
              <a:avLst/>
              <a:gdLst>
                <a:gd name="textAreaLeft" fmla="*/ 0 w 1055520"/>
                <a:gd name="textAreaRight" fmla="*/ 1055880 w 105552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solidFill>
              <a:srgbClr val="a3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Text Box 17"/>
            <p:cNvSpPr/>
            <p:nvPr/>
          </p:nvSpPr>
          <p:spPr>
            <a:xfrm flipH="1">
              <a:off x="2936880" y="15843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О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Oval 20"/>
            <p:cNvSpPr/>
            <p:nvPr/>
          </p:nvSpPr>
          <p:spPr>
            <a:xfrm rot="20601600">
              <a:off x="1449000" y="1336680"/>
              <a:ext cx="155088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21"/>
            <p:cNvSpPr/>
            <p:nvPr/>
          </p:nvSpPr>
          <p:spPr>
            <a:xfrm>
              <a:off x="2467080" y="1787400"/>
              <a:ext cx="770040" cy="50328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c4c32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Text Box 17"/>
            <p:cNvSpPr/>
            <p:nvPr/>
          </p:nvSpPr>
          <p:spPr>
            <a:xfrm flipH="1">
              <a:off x="2894040" y="108072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О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Text Box 17"/>
            <p:cNvSpPr/>
            <p:nvPr/>
          </p:nvSpPr>
          <p:spPr>
            <a:xfrm flipH="1">
              <a:off x="792000" y="129204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РО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Text Box 17"/>
            <p:cNvSpPr/>
            <p:nvPr/>
          </p:nvSpPr>
          <p:spPr>
            <a:xfrm flipH="1">
              <a:off x="1863000" y="906120"/>
              <a:ext cx="90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О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Text Box 17"/>
            <p:cNvSpPr/>
            <p:nvPr/>
          </p:nvSpPr>
          <p:spPr>
            <a:xfrm flipH="1">
              <a:off x="578520" y="1868400"/>
              <a:ext cx="10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МУБиН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Text Box 17"/>
            <p:cNvSpPr/>
            <p:nvPr/>
          </p:nvSpPr>
          <p:spPr>
            <a:xfrm flipH="1">
              <a:off x="1566720" y="187956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T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-компани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9" name="Содержимое 2"/>
          <p:cNvSpPr/>
          <p:nvPr/>
        </p:nvSpPr>
        <p:spPr>
          <a:xfrm>
            <a:off x="0" y="2687760"/>
            <a:ext cx="914400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57480" indent="-10782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012 год. РИП «Сетевая библиотека – центр информационно-образовательного пространст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257480" indent="-10782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013 год. РИП  «Соорганизация деятельности субъектов образовательной практики в сетевой библиотек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257480" indent="-10782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014-2016 годы. РИП  «Механизмы использования ресурсов открытого информационно-образовательного пространства на муниципальном уровне для достижения обучающимися новых образовательных результат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257480" indent="-1078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ните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МУ ДПО «Информационно-образовательный Центр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57480" indent="-1078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 школьных библиотекарей, СОШ №№ 5, 10, 12, 16, 20, 23, гимназия № 8, Межшкольный учебный комбинат (УП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57480" indent="-1078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257480" indent="-1078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Прямоугольник 25"/>
          <p:cNvSpPr/>
          <p:nvPr/>
        </p:nvSpPr>
        <p:spPr>
          <a:xfrm>
            <a:off x="4319640" y="1312920"/>
            <a:ext cx="47894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>
              <a:spcBef>
                <a:spcPts val="901"/>
              </a:spcBef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уководитель РИП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0"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Шувалова Светлана Олегов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директор МУ ДПО «Информационно-образовательный Центр»,  к.п.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115920"/>
            <a:ext cx="1009800" cy="1009440"/>
          </a:xfrm>
          <a:prstGeom prst="rect">
            <a:avLst/>
          </a:prstGeom>
          <a:ln w="0">
            <a:noFill/>
          </a:ln>
        </p:spPr>
      </p:pic>
      <p:sp>
        <p:nvSpPr>
          <p:cNvPr id="602" name="TextBox 1"/>
          <p:cNvSpPr/>
          <p:nvPr/>
        </p:nvSpPr>
        <p:spPr>
          <a:xfrm>
            <a:off x="1008000" y="6381720"/>
            <a:ext cx="716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йт МУ ДПО ИОЦ г. Рыбинска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oc.rybadm.ru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Сотрудничество с издательств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179280" y="123624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ОО «Русское слово – учебн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динённая издательская группа «ДРОФА» – «ВЕНТАНА ГРАФ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ционерное общество «Издательство «Просвещени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ОО «ВАК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ОО «Планет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дательство ООО «БИНОМ. Лаборатория знани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ОО «ИОЦ Мнемозин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017-18 учебном год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участники сети получат доступ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электронным формам учебников (ЭФУ) издательства «Русское слово – учебник» и объединённой издательской группы «ДРОФА» – «ВЕНТАНА ГРАФ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4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18900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11592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34920" y="1639800"/>
            <a:ext cx="907416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 качестве технологической основы информационного обеспечения региональной сети выбрана и используется свободно распространяемая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система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Arial"/>
              </a:rPr>
              <a:t>ILIA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истем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LIA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как единая технологическая платформа будет использоваться во всех узлах сети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с целью создания единого информационного пространст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отрудники РИБЦ оказывают помощь в установке ПО на местах, консультационное сопровождение администраторов системы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LIA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 настоящий момент платформа развернута только в части О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На следующих 2-х слайдах – пример использования платформы в ОО (реализация курсов по выбору, сетевого проект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216080" y="259920"/>
            <a:ext cx="79279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Информационное, технико-технологическое сопровожде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2960" y="167760"/>
            <a:ext cx="8964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Опорный ШИБЦ МОУ гимназия №8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им. Л.М. Марасиновой г. Рыбинс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Рисунок 4" descr=""/>
          <p:cNvPicPr/>
          <p:nvPr/>
        </p:nvPicPr>
        <p:blipFill>
          <a:blip r:embed="rId1"/>
          <a:srcRect l="26758" t="25364" r="30920" b="26373"/>
          <a:stretch/>
        </p:blipFill>
        <p:spPr>
          <a:xfrm>
            <a:off x="-27000" y="1022400"/>
            <a:ext cx="919008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1280" y="11592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Опорный ШИБЦ МОУ гимназия №8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им. Л.М. Марасиновой г. Рыбинс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1" name="Рисунок 3" descr=""/>
          <p:cNvPicPr/>
          <p:nvPr/>
        </p:nvPicPr>
        <p:blipFill>
          <a:blip r:embed="rId1"/>
          <a:stretch/>
        </p:blipFill>
        <p:spPr>
          <a:xfrm>
            <a:off x="117360" y="1027080"/>
            <a:ext cx="891072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20360" y="115560"/>
            <a:ext cx="8388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Региональный ИБЦ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Информационный портал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ios.iro.yar.r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Прямоугольник 2"/>
          <p:cNvSpPr/>
          <p:nvPr/>
        </p:nvSpPr>
        <p:spPr>
          <a:xfrm>
            <a:off x="324000" y="1989000"/>
            <a:ext cx="864072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Общее информационное пространство как площадка для совместного общения (портал, основанный на принципах неформального сетевого общения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4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11592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5544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746" name="TextBox 5"/>
          <p:cNvSpPr/>
          <p:nvPr/>
        </p:nvSpPr>
        <p:spPr>
          <a:xfrm>
            <a:off x="14400" y="789120"/>
            <a:ext cx="9115200" cy="60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0000"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 соответствии с Планом мероприятий по реализаци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федеральной программ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70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обретение доступа к электронным библиотекам 40 ОО-победителям конкурсного отбора 2017 г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70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бучение команд ОО-победителей конкурсного отбора 2017 года (40 ОО, 160 педагогов, 2 этапа обучения)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 этом будет иметь место корректировка программ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70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роведение очных семинаров на базе 4-х опорных ШИБЦ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(1-е полугодие – 2, 2-е полугодие – 2), проведение вебинаров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одключение новых членов региональной се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70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программы повышения квалификации тьюторов по сопровождению школьных ИБЦ  (24 час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70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и работа «в штатном режиме» экспертного сообщества сети (общественная экспертиза региональных ИОР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70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Разворачивание программного комплекса на платформ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LIA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в О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70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методических рекомендаций по сетевому взаимодействию для школьных ИБ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70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тематических баз данных по приоритетным направлениям развития региональной системы образования (2017 – не менее 2-х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70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роведение межрегиональной веб-конференции по итогам 2-го года реализации проекта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Заголовок 1"/>
          <p:cNvSpPr/>
          <p:nvPr/>
        </p:nvSpPr>
        <p:spPr>
          <a:xfrm>
            <a:off x="1216080" y="-27000"/>
            <a:ext cx="7927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Перспективные направления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11592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604" name="TextBox 5"/>
          <p:cNvSpPr/>
          <p:nvPr/>
        </p:nvSpPr>
        <p:spPr>
          <a:xfrm>
            <a:off x="34920" y="1773360"/>
            <a:ext cx="9007560" cy="47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Структура Концеп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Общие положения, актуальност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Цель и задачи. Основные направления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деятель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Кадровое обеспе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Научно-методическое обеспе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Нормативно-правовое обеспе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Информационное обеспе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Технико-технологическое обеспе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Этапы реализации Концеп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25520" y="43920"/>
            <a:ext cx="79264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Концепция региональной сети информационно-библиотечных центров образовательных организаций Ярославской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6" name="Picture 2" descr="http://www.iro.yar.ru/fileadmin/_processed_/csm_sozd_reg_seti_ef0f6cc3a2.jpg"/>
          <p:cNvPicPr/>
          <p:nvPr/>
        </p:nvPicPr>
        <p:blipFill>
          <a:blip r:embed="rId2"/>
          <a:stretch/>
        </p:blipFill>
        <p:spPr>
          <a:xfrm>
            <a:off x="5940360" y="1862280"/>
            <a:ext cx="31687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11592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608" name="TextBox 5"/>
          <p:cNvSpPr/>
          <p:nvPr/>
        </p:nvSpPr>
        <p:spPr>
          <a:xfrm>
            <a:off x="95400" y="1916280"/>
            <a:ext cx="9007200" cy="42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Ведущая идея – организация сетевого взаимодействия школьных ИБЦ для реализации ФГОС, достижения предметных, метапредметных и личностных результатов обучающихс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Сетевое взаимодействие рассматривается как один из факторов, который может привести к новому качеству образова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Интеграция ресурсного обеспечения: нормативного, кадрового, информационного, научно-методического, технико-технологическог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325520" y="-27360"/>
            <a:ext cx="79264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Концепция региональной сети информационно-библиотечных центров образовательных организаций Ярославской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11592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611" name="TextBox 5"/>
          <p:cNvSpPr/>
          <p:nvPr/>
        </p:nvSpPr>
        <p:spPr>
          <a:xfrm>
            <a:off x="101520" y="1589040"/>
            <a:ext cx="9007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Осуществляет сопровождение участников региональной сети ШИБЦ ОО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9279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Региональный ИБЦ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5"/>
          <p:cNvSpPr/>
          <p:nvPr/>
        </p:nvSpPr>
        <p:spPr>
          <a:xfrm>
            <a:off x="101520" y="297504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ано Положение о РИБЦ как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егиональном ресурсном центре системы образования Ярославск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Облако 74"/>
          <p:cNvSpPr/>
          <p:nvPr/>
        </p:nvSpPr>
        <p:spPr>
          <a:xfrm>
            <a:off x="1692360" y="1125360"/>
            <a:ext cx="6408720" cy="4896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Арка 73"/>
          <p:cNvSpPr/>
          <p:nvPr/>
        </p:nvSpPr>
        <p:spPr>
          <a:xfrm>
            <a:off x="2738520" y="1530360"/>
            <a:ext cx="3346200" cy="3346560"/>
          </a:xfrm>
          <a:custGeom>
            <a:avLst/>
            <a:gdLst/>
            <a:ahLst/>
            <a:rect l="l" t="t" r="r" b="b"/>
            <a:pathLst>
              <a:path w="3346450" h="3346450">
                <a:moveTo>
                  <a:pt x="81893" y="1156170"/>
                </a:moveTo>
                <a:cubicBezTo>
                  <a:pt x="305895" y="466763"/>
                  <a:pt x="948340" y="0"/>
                  <a:pt x="1673225" y="0"/>
                </a:cubicBezTo>
                <a:lnTo>
                  <a:pt x="1673225" y="155141"/>
                </a:lnTo>
                <a:cubicBezTo>
                  <a:pt x="1015551" y="155141"/>
                  <a:pt x="432674" y="578626"/>
                  <a:pt x="229441" y="1204111"/>
                </a:cubicBezTo>
                <a:lnTo>
                  <a:pt x="81893" y="115617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6" name="Прямая со стрелкой 19"/>
          <p:cNvCxnSpPr>
            <a:stCxn id="617" idx="2"/>
          </p:cNvCxnSpPr>
          <p:nvPr/>
        </p:nvCxnSpPr>
        <p:spPr>
          <a:xfrm>
            <a:off x="2442960" y="1531440"/>
            <a:ext cx="1161000" cy="358200"/>
          </a:xfrm>
          <a:prstGeom prst="straightConnector1">
            <a:avLst/>
          </a:prstGeom>
          <a:ln w="1260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17" name="TextBox 16"/>
          <p:cNvSpPr/>
          <p:nvPr/>
        </p:nvSpPr>
        <p:spPr>
          <a:xfrm>
            <a:off x="100080" y="947880"/>
            <a:ext cx="4687920" cy="5806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етевое взаимодействие – осуществление совместной деятель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Арка 51"/>
          <p:cNvSpPr/>
          <p:nvPr/>
        </p:nvSpPr>
        <p:spPr>
          <a:xfrm>
            <a:off x="2549520" y="1949400"/>
            <a:ext cx="3346560" cy="3346560"/>
          </a:xfrm>
          <a:custGeom>
            <a:avLst/>
            <a:gdLst/>
            <a:ahLst/>
            <a:rect l="l" t="t" r="r" b="b"/>
            <a:pathLst>
              <a:path w="3346450" h="3346450">
                <a:moveTo>
                  <a:pt x="689728" y="3026892"/>
                </a:moveTo>
                <a:cubicBezTo>
                  <a:pt x="103284" y="2600815"/>
                  <a:pt x="-142108" y="1845576"/>
                  <a:pt x="81893" y="1156170"/>
                </a:cubicBezTo>
                <a:lnTo>
                  <a:pt x="229442" y="1204111"/>
                </a:lnTo>
                <a:cubicBezTo>
                  <a:pt x="26210" y="1829596"/>
                  <a:pt x="248849" y="2514810"/>
                  <a:pt x="780918" y="2901381"/>
                </a:cubicBezTo>
                <a:lnTo>
                  <a:pt x="689728" y="302689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Арка 52"/>
          <p:cNvSpPr/>
          <p:nvPr/>
        </p:nvSpPr>
        <p:spPr>
          <a:xfrm>
            <a:off x="2878200" y="2076480"/>
            <a:ext cx="3346560" cy="3346560"/>
          </a:xfrm>
          <a:custGeom>
            <a:avLst/>
            <a:gdLst/>
            <a:ahLst/>
            <a:rect l="l" t="t" r="r" b="b"/>
            <a:pathLst>
              <a:path w="3346450" h="3346450">
                <a:moveTo>
                  <a:pt x="2656722" y="3026892"/>
                </a:moveTo>
                <a:cubicBezTo>
                  <a:pt x="0" y="0"/>
                  <a:pt x="0" y="0"/>
                  <a:pt x="689728" y="3026892"/>
                </a:cubicBezTo>
                <a:lnTo>
                  <a:pt x="780918" y="2901380"/>
                </a:lnTo>
                <a:cubicBezTo>
                  <a:pt x="0" y="0"/>
                  <a:pt x="0" y="0"/>
                  <a:pt x="2565533" y="2901380"/>
                </a:cubicBezTo>
                <a:lnTo>
                  <a:pt x="2656722" y="302689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Арка 53"/>
          <p:cNvSpPr/>
          <p:nvPr/>
        </p:nvSpPr>
        <p:spPr>
          <a:xfrm>
            <a:off x="3206880" y="1911240"/>
            <a:ext cx="3346200" cy="3346560"/>
          </a:xfrm>
          <a:custGeom>
            <a:avLst/>
            <a:gdLst/>
            <a:ahLst/>
            <a:rect l="l" t="t" r="r" b="b"/>
            <a:pathLst>
              <a:path w="3346450" h="3346450">
                <a:moveTo>
                  <a:pt x="3264557" y="1156170"/>
                </a:moveTo>
                <a:cubicBezTo>
                  <a:pt x="3488559" y="1845577"/>
                  <a:pt x="3243167" y="2600816"/>
                  <a:pt x="2656722" y="3026892"/>
                </a:cubicBezTo>
                <a:lnTo>
                  <a:pt x="2565532" y="2901380"/>
                </a:lnTo>
                <a:cubicBezTo>
                  <a:pt x="3097601" y="2514809"/>
                  <a:pt x="3320241" y="1829595"/>
                  <a:pt x="3117008" y="1204110"/>
                </a:cubicBezTo>
                <a:lnTo>
                  <a:pt x="3264557" y="115617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Арка 54"/>
          <p:cNvSpPr/>
          <p:nvPr/>
        </p:nvSpPr>
        <p:spPr>
          <a:xfrm>
            <a:off x="3276720" y="1611360"/>
            <a:ext cx="3346200" cy="3346560"/>
          </a:xfrm>
          <a:custGeom>
            <a:avLst/>
            <a:gdLst/>
            <a:ahLst/>
            <a:rect l="l" t="t" r="r" b="b"/>
            <a:pathLst>
              <a:path w="3346450" h="3346450">
                <a:moveTo>
                  <a:pt x="1673225" y="0"/>
                </a:moveTo>
                <a:cubicBezTo>
                  <a:pt x="2398110" y="0"/>
                  <a:pt x="3040555" y="466763"/>
                  <a:pt x="3264557" y="1156170"/>
                </a:cubicBezTo>
                <a:lnTo>
                  <a:pt x="3117008" y="1204111"/>
                </a:lnTo>
                <a:cubicBezTo>
                  <a:pt x="2913776" y="578626"/>
                  <a:pt x="2330898" y="155141"/>
                  <a:pt x="1673224" y="155141"/>
                </a:cubicBezTo>
                <a:cubicBezTo>
                  <a:pt x="1673224" y="103427"/>
                  <a:pt x="1673225" y="51714"/>
                  <a:pt x="1673225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Прямая соединительная линия 77"/>
          <p:cNvSpPr/>
          <p:nvPr/>
        </p:nvSpPr>
        <p:spPr>
          <a:xfrm>
            <a:off x="4572000" y="2239920"/>
            <a:ext cx="0" cy="720720"/>
          </a:xfrm>
          <a:prstGeom prst="line">
            <a:avLst/>
          </a:prstGeom>
          <a:ln w="190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Прямая соединительная линия 78"/>
          <p:cNvSpPr/>
          <p:nvPr/>
        </p:nvSpPr>
        <p:spPr>
          <a:xfrm flipH="1">
            <a:off x="3790800" y="3959280"/>
            <a:ext cx="432000" cy="647640"/>
          </a:xfrm>
          <a:prstGeom prst="line">
            <a:avLst/>
          </a:prstGeom>
          <a:ln w="190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Прямая соединительная линия 80"/>
          <p:cNvSpPr/>
          <p:nvPr/>
        </p:nvSpPr>
        <p:spPr>
          <a:xfrm flipH="1">
            <a:off x="5076720" y="3141720"/>
            <a:ext cx="790560" cy="142920"/>
          </a:xfrm>
          <a:prstGeom prst="line">
            <a:avLst/>
          </a:prstGeom>
          <a:ln w="190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Прямая соединительная линия 81"/>
          <p:cNvSpPr/>
          <p:nvPr/>
        </p:nvSpPr>
        <p:spPr>
          <a:xfrm flipH="1" flipV="1">
            <a:off x="3276360" y="3141720"/>
            <a:ext cx="863640" cy="141120"/>
          </a:xfrm>
          <a:prstGeom prst="line">
            <a:avLst/>
          </a:prstGeom>
          <a:ln w="190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Прямая соединительная линия 82"/>
          <p:cNvSpPr/>
          <p:nvPr/>
        </p:nvSpPr>
        <p:spPr>
          <a:xfrm flipH="1" flipV="1">
            <a:off x="4716000" y="4005000"/>
            <a:ext cx="755640" cy="647640"/>
          </a:xfrm>
          <a:prstGeom prst="line">
            <a:avLst/>
          </a:prstGeom>
          <a:ln w="190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7" name="Группа 60"/>
          <p:cNvGrpSpPr/>
          <p:nvPr/>
        </p:nvGrpSpPr>
        <p:grpSpPr>
          <a:xfrm>
            <a:off x="2198520" y="2548080"/>
            <a:ext cx="1078200" cy="1076040"/>
            <a:chOff x="2198520" y="2548080"/>
            <a:chExt cx="1078200" cy="1076040"/>
          </a:xfrm>
        </p:grpSpPr>
        <p:sp>
          <p:nvSpPr>
            <p:cNvPr id="628" name="Овал 61"/>
            <p:cNvSpPr/>
            <p:nvPr/>
          </p:nvSpPr>
          <p:spPr>
            <a:xfrm>
              <a:off x="2198520" y="2548080"/>
              <a:ext cx="1078200" cy="107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Овал 18"/>
            <p:cNvSpPr/>
            <p:nvPr/>
          </p:nvSpPr>
          <p:spPr>
            <a:xfrm>
              <a:off x="2355480" y="2705040"/>
              <a:ext cx="7639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0" name="Овал 67"/>
          <p:cNvSpPr/>
          <p:nvPr/>
        </p:nvSpPr>
        <p:spPr>
          <a:xfrm>
            <a:off x="5641920" y="2541600"/>
            <a:ext cx="1351080" cy="1076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1" name="Группа 56"/>
          <p:cNvGrpSpPr/>
          <p:nvPr/>
        </p:nvGrpSpPr>
        <p:grpSpPr>
          <a:xfrm>
            <a:off x="3743280" y="1279440"/>
            <a:ext cx="1536840" cy="1076400"/>
            <a:chOff x="3743280" y="1279440"/>
            <a:chExt cx="1536840" cy="1076400"/>
          </a:xfrm>
        </p:grpSpPr>
        <p:sp>
          <p:nvSpPr>
            <p:cNvPr id="632" name="Овал 69"/>
            <p:cNvSpPr/>
            <p:nvPr/>
          </p:nvSpPr>
          <p:spPr>
            <a:xfrm>
              <a:off x="3743280" y="1279440"/>
              <a:ext cx="1536840" cy="1076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Овал 10"/>
            <p:cNvSpPr/>
            <p:nvPr/>
          </p:nvSpPr>
          <p:spPr>
            <a:xfrm>
              <a:off x="3930480" y="1436400"/>
              <a:ext cx="12639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ШИБЦ 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4" name="Группа 59"/>
          <p:cNvGrpSpPr/>
          <p:nvPr/>
        </p:nvGrpSpPr>
        <p:grpSpPr>
          <a:xfrm>
            <a:off x="3003480" y="4368960"/>
            <a:ext cx="1077840" cy="1076040"/>
            <a:chOff x="3003480" y="4368960"/>
            <a:chExt cx="1077840" cy="1076040"/>
          </a:xfrm>
        </p:grpSpPr>
        <p:sp>
          <p:nvSpPr>
            <p:cNvPr id="635" name="Овал 63"/>
            <p:cNvSpPr/>
            <p:nvPr/>
          </p:nvSpPr>
          <p:spPr>
            <a:xfrm>
              <a:off x="3003480" y="4368960"/>
              <a:ext cx="1077840" cy="107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Овал 16"/>
            <p:cNvSpPr/>
            <p:nvPr/>
          </p:nvSpPr>
          <p:spPr>
            <a:xfrm>
              <a:off x="3160440" y="4525920"/>
              <a:ext cx="7635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7" name="Овал 65"/>
          <p:cNvSpPr/>
          <p:nvPr/>
        </p:nvSpPr>
        <p:spPr>
          <a:xfrm>
            <a:off x="4897440" y="4403880"/>
            <a:ext cx="1536840" cy="1077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83"/>
          <p:cNvSpPr/>
          <p:nvPr/>
        </p:nvSpPr>
        <p:spPr>
          <a:xfrm>
            <a:off x="6551640" y="1805040"/>
            <a:ext cx="2124000" cy="6123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Сетевая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инфраструктур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9" name="Группа 84"/>
          <p:cNvGrpSpPr/>
          <p:nvPr/>
        </p:nvGrpSpPr>
        <p:grpSpPr>
          <a:xfrm>
            <a:off x="3781440" y="2732040"/>
            <a:ext cx="1539720" cy="1457280"/>
            <a:chOff x="3781440" y="2732040"/>
            <a:chExt cx="1539720" cy="1457280"/>
          </a:xfrm>
        </p:grpSpPr>
        <p:sp>
          <p:nvSpPr>
            <p:cNvPr id="640" name="Овал 85"/>
            <p:cNvSpPr/>
            <p:nvPr/>
          </p:nvSpPr>
          <p:spPr>
            <a:xfrm>
              <a:off x="3781440" y="2732040"/>
              <a:ext cx="1539720" cy="14572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Овал 4"/>
            <p:cNvSpPr/>
            <p:nvPr/>
          </p:nvSpPr>
          <p:spPr>
            <a:xfrm>
              <a:off x="4006800" y="2944800"/>
              <a:ext cx="10890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ctr">
              <a:no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Calibri"/>
                </a:rPr>
                <a:t>РИБЦ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42" name="Прямая со стрелкой 21"/>
          <p:cNvCxnSpPr/>
          <p:nvPr/>
        </p:nvCxnSpPr>
        <p:spPr>
          <a:xfrm>
            <a:off x="2374560" y="1530360"/>
            <a:ext cx="2197800" cy="1070640"/>
          </a:xfrm>
          <a:prstGeom prst="straightConnector1">
            <a:avLst/>
          </a:prstGeom>
          <a:ln w="1260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43" name="Прямая со стрелкой 23"/>
          <p:cNvCxnSpPr>
            <a:stCxn id="617" idx="2"/>
          </p:cNvCxnSpPr>
          <p:nvPr/>
        </p:nvCxnSpPr>
        <p:spPr>
          <a:xfrm>
            <a:off x="2443320" y="1531800"/>
            <a:ext cx="1326240" cy="1680480"/>
          </a:xfrm>
          <a:prstGeom prst="straightConnector1">
            <a:avLst/>
          </a:prstGeom>
          <a:ln w="1260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44" name="Прямая со стрелкой 25"/>
          <p:cNvCxnSpPr>
            <a:stCxn id="617" idx="2"/>
          </p:cNvCxnSpPr>
          <p:nvPr/>
        </p:nvCxnSpPr>
        <p:spPr>
          <a:xfrm>
            <a:off x="2442960" y="1531440"/>
            <a:ext cx="246600" cy="2545560"/>
          </a:xfrm>
          <a:prstGeom prst="straightConnector1">
            <a:avLst/>
          </a:prstGeom>
          <a:ln w="1260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45" name="Овал 10"/>
          <p:cNvSpPr/>
          <p:nvPr/>
        </p:nvSpPr>
        <p:spPr>
          <a:xfrm>
            <a:off x="5740560" y="2666880"/>
            <a:ext cx="12636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ШИБЦ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Овал 10"/>
          <p:cNvSpPr/>
          <p:nvPr/>
        </p:nvSpPr>
        <p:spPr>
          <a:xfrm>
            <a:off x="5062680" y="4619520"/>
            <a:ext cx="126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ШИБЦ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Рисунок 1" descr=""/>
          <p:cNvPicPr/>
          <p:nvPr/>
        </p:nvPicPr>
        <p:blipFill>
          <a:blip r:embed="rId2"/>
          <a:srcRect l="1674" t="9085" r="83338" b="9130"/>
          <a:stretch/>
        </p:blipFill>
        <p:spPr>
          <a:xfrm>
            <a:off x="7740720" y="10008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612800" y="149040"/>
            <a:ext cx="641520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Региональная сеть ШИБ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11592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650" name="TextBox 5"/>
          <p:cNvSpPr/>
          <p:nvPr/>
        </p:nvSpPr>
        <p:spPr>
          <a:xfrm>
            <a:off x="58680" y="1484280"/>
            <a:ext cx="9007560" cy="52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016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Департаментом образования проведен Конкурсный отбор согласно ПОРЯДКА предоставления гранта муниципальным и частным образовательным организациям Ярославской области, реализующим общеобразовательные программы, по направлению «Модернизация организационно-технологической инфраструктуры и обновления фондов школьных библиотек»</a:t>
            </a:r>
            <a:br>
              <a:rPr sz="24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(Постановление Правительства области от 12.08.2016 №0941-п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«Об утверждении Порядка предоставления гранта …»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рганизационное сопровождение поручено ГАУ ДПО ЯО ИР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вгуст – конкурсный отбор ОО согласн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становленным критериям отбор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5 августа – подписаны Соглашения между Департаментом образования и 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86920" y="115560"/>
            <a:ext cx="792828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Конкурсный отбор ОО Ярославской области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по направлению «Модернизация организационно-технологической инфраструктуры и обновления фондов школьных библиоте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Рисунок 1" descr=""/>
          <p:cNvPicPr/>
          <p:nvPr/>
        </p:nvPicPr>
        <p:blipFill>
          <a:blip r:embed="rId1"/>
          <a:srcRect l="1674" t="9085" r="83338" b="9130"/>
          <a:stretch/>
        </p:blipFill>
        <p:spPr>
          <a:xfrm>
            <a:off x="179280" y="11592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653" name="TextBox 5"/>
          <p:cNvSpPr/>
          <p:nvPr/>
        </p:nvSpPr>
        <p:spPr>
          <a:xfrm>
            <a:off x="106200" y="2016000"/>
            <a:ext cx="9007560" cy="34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2016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201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г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писание условий готовности организации к созданию школьного информационно-библиотечного цент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писание перспективного видения школьного информационно-библиотечного цент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Конкурсные материалы и критерии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конкурсного отбора ОО Ярославской области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7:02:54Z</dcterms:created>
  <dc:creator>Наталья Николаевна Новикова</dc:creator>
  <dc:description/>
  <dc:language>en-US</dc:language>
  <cp:lastModifiedBy>Галина Дмитриевна Редченкова</cp:lastModifiedBy>
  <cp:lastPrinted>2017-04-26T05:50:06Z</cp:lastPrinted>
  <dcterms:modified xsi:type="dcterms:W3CDTF">2017-04-27T12:25:47Z</dcterms:modified>
  <cp:revision>355</cp:revision>
  <dc:subject/>
  <dc:title>Презентация PowerPoint</dc:title>
</cp:coreProperties>
</file>